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3420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2" marL="6840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3" marL="10260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4" marL="1371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5" marL="1371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6" marL="1371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6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1965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2" marL="39312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3" marL="5896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4" marL="78624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5" marL="78624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6" marL="78624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0080" y="1638360"/>
            <a:ext cx="10463040" cy="33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Design Issue Presentation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5028840"/>
            <a:ext cx="104630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Ünterhaus / Bumbershoot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2560" y="253800"/>
            <a:ext cx="11098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ontex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560" y="259092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4600" indent="-44460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Where does the problem exist in the game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444600" indent="-44460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Why is this a problem? (Be concrete.)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560" y="253800"/>
            <a:ext cx="11098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Lenses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560" y="259092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4600" indent="-44460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What design lenses apply to this issue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888840" indent="-44424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Describe the lens in some detail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888840" indent="-44424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What do you learn from the lens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560" y="253800"/>
            <a:ext cx="11098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Potential Solution #1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560" y="259092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4600" indent="-44460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What is the proposed solution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444600" indent="-44460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What are the advantages and drawbacks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52560" y="253800"/>
            <a:ext cx="11098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Potential Solution #2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52560" y="259092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4600" indent="-44460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What is the proposed solution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444600" indent="-44460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What are the advantages and drawbacks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